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image1.jpeg" ContentType="image/jpeg"/>
  <Override PartName="/ppt/media/chimes.wav" ContentType="audio/x-wav"/>
  <Override PartName="/ppt/media/image2.jpeg" ContentType="image/jpeg"/>
  <Override PartName="/ppt/media/click.wav" ContentType="audio/x-wav"/>
  <Override PartName="/ppt/media/image3.jpeg" ContentType="image/jpeg"/>
  <Override PartName="/ppt/media/explod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1D7-1126-43AF-A047-FC4D38AC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7E8-1FBC-49DB-8B81-B990887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95F-26FA-40A9-B59C-E8A75C8E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443-24E4-4391-BADB-D6F5F306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681B-88BE-4F42-99F9-8A90AA6F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398B-4CDC-4A34-A5CD-40232398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C4AE-FA12-4BE8-A01B-05852E58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0417-7BB7-4814-B016-622BF2F7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B2D2-828E-40D7-BC5C-0A2E4A0B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B927-2F2A-4CAB-A3C7-6B7DD287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521E-24DB-4FAD-925D-18040B40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CFB-EF71-48E6-B92A-7F76E7F2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C2D8-4E67-40D1-A9AD-6F878B56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3C00-F8E1-4B31-815E-03753E9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FB02-27A3-46B6-81D2-3422B75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FD6E-4B41-4F23-AC14-696ECB26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9DED-B356-4A09-B5DD-0D219ADB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3E3-CAAF-485F-A6B5-84BEFA5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E83-D457-4856-AA32-052CFDB8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08D-B18D-4A0E-A640-E570BBFD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133-7C48-47C2-B775-56D6B883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DB0-9F55-4B80-BFA7-462947DD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6B4-E117-4CB8-A9D5-A87D96D2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4E3-FE17-4661-B480-4C222A8B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84A-8DC9-4CD2-B7EF-A1ABB972DFC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4B3D-D856-48C0-834E-77ECE5A4B73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-252360" y="4410000"/>
            <a:ext cx="939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GUY FAWK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>
    <p:newsflash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cc"/>
                </a:solidFill>
                <a:latin typeface="Arial Black"/>
              </a:rPr>
              <a:t>STUFF ABOUT GUY FAW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Guy Fawkes was born on the 13</a:t>
            </a:r>
            <a:r>
              <a:rPr b="0" lang="en-NZ" sz="2400" spc="-1" strike="noStrike" baseline="30000">
                <a:solidFill>
                  <a:srgbClr val="ffcc00"/>
                </a:solidFill>
                <a:latin typeface="Arial Black"/>
              </a:rPr>
              <a:t>th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April 1570 and died on 31</a:t>
            </a:r>
            <a:r>
              <a:rPr b="0" lang="en-NZ" sz="2400" spc="-1" strike="noStrike" baseline="30000">
                <a:solidFill>
                  <a:srgbClr val="ffcc00"/>
                </a:solidFill>
                <a:latin typeface="Arial Black"/>
              </a:rPr>
              <a:t>st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January 1606 he was 35 his real name is Guido Fawkes the cause of death was that he got hung and his funeral was at west minister in London.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033800" cy="43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ff"/>
                </a:solidFill>
                <a:latin typeface="Arial Black"/>
              </a:rPr>
              <a:t>Why is guy Fawkes celebrated on the 5</a:t>
            </a:r>
            <a:r>
              <a:rPr b="0" lang="en-NZ" sz="4000" spc="-1" strike="noStrike" baseline="30000">
                <a:solidFill>
                  <a:srgbClr val="66ffff"/>
                </a:solidFill>
                <a:latin typeface="Arial Black"/>
              </a:rPr>
              <a:t>th</a:t>
            </a:r>
            <a:r>
              <a:rPr b="0" lang="en-NZ" sz="4000" spc="-1" strike="noStrike">
                <a:solidFill>
                  <a:srgbClr val="66ffff"/>
                </a:solidFill>
                <a:latin typeface="Arial Black"/>
              </a:rPr>
              <a:t> of November    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ecause that’s the day when guy Fawkes got arrested  in 1605 and he died the next year and guy Fawkes is originally from London in England.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y did Guy Fawkes get arrest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He tried to blow up the Houses of Parliament</a:t>
            </a:r>
            <a:r>
              <a:rPr b="0" lang="en-NZ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.He was a Catholic. He and a small group of Catholics felt they were being treated unfairly so they planned to blow up the houses parliament but got caugh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960720" cy="4249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66"/>
                </a:solidFill>
                <a:latin typeface="Arial Black"/>
              </a:rPr>
              <a:t>THANKS FOR LISTNING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32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4:46:43Z</dcterms:created>
  <dc:creator>Adiel</dc:creator>
  <dc:description/>
  <dc:language>en-US</dc:language>
  <cp:lastModifiedBy>Adiel</cp:lastModifiedBy>
  <dcterms:modified xsi:type="dcterms:W3CDTF">2011-11-03T19:02:11Z</dcterms:modified>
  <cp:revision>4</cp:revision>
  <dc:subject/>
  <dc:title>Slide 1</dc:title>
</cp:coreProperties>
</file>